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F37-A963-4431-BCFB-F6A06CDC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54D2-5CEB-4791-8824-FA56C1BE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5F52E-84BB-4A8B-A6B5-908CF6B7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E3B5B-84CB-44DA-A796-A6E05A35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E3E70-59CF-44E4-A694-24A743D9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C0BBC-FB91-4444-861D-6BA385F4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0254A-C14A-419B-84E3-8BE5C2C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CFA20-4D43-468B-AA49-8CE1158F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6E963-C691-4E73-A4E3-1176D28A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6B31F-F2CA-41C5-8704-581A5A00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7F917-797C-484C-9D69-D998DA2F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642FD-02C4-4ADA-9A7C-30EB6E37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45E-7D0D-40F8-87FE-B37283AE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76273-A3F5-4342-BADE-A3799FC8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072A2-4DFF-4577-88E3-2F01F46E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E64E6-6907-4D90-8DC6-22006A07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591C5-D583-461A-94A1-A871F548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07C69-98F3-4362-9DE1-35D38FE1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020AE-5ABE-46FA-BF3D-30309F94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8FBC8-7B8B-4191-B7D9-F48F2A95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D85D2-C525-439B-8F4B-8343CB23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2950A-DC61-4605-AF95-229816F2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4CB07-CE64-4624-A278-2C26083C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D0D-78AA-41A4-B3F1-F9953FC5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1F328-7519-4E9A-876D-DD98D568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629DD-6B67-4679-9034-B05D4A37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DB4DF-A7DC-4C33-9631-7ABB09C9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31B3E-F27A-45CB-A768-7C6EAE1C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7BAF0-2212-426B-A866-016C1658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E32D6-9876-495F-ABD5-785E1EAE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F9B41-E9F8-44AE-86E3-1FF980DA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2F4B7-37A6-42F8-A553-F449172C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9A224-6CE6-417A-B165-B5F40582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4AE30-D8E9-4B47-A75D-4ED93377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7D80-8ABE-4B60-8EF8-26C9F943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A64FB-2B0E-40E2-AA9B-81526866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42FC6-173F-44A5-94F5-1995449A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5A76A-458E-454D-8FC9-A622A974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DBE5B-ABA3-4ABD-9C60-D5237915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81544-5E7B-46F7-9844-7B0C4532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2A7D0-8F5F-4623-8092-3D4E814D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557B1-72B7-4996-B215-BB9A3D66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B6531-EAB8-4558-87CB-26F670AB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65E12-7898-428C-92A1-C97508E1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7BC7E-2FA6-4391-B8CE-DF4542E6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B128-A368-4D7A-9D2E-94981947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0C854-15B6-417C-994F-239F1B87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9E87A-F104-4DB4-9176-474E82B0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E6C33-4F27-44AA-A6A2-DBE1410F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0DC5E-9314-4417-A17F-1F1AE65F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2EDE2-A8F1-45F9-B067-9589F651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1891B-E73B-4D94-8534-7E9F0FDC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462DC-21FF-4096-988C-E6118B58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631D7-97A0-4173-9D12-85B9F423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92D61-9B93-4BE9-9D64-7379161B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FB2EC-8123-46EC-ADDF-2915CFF2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B6D6-012C-48C4-AE62-71DCDC26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1C8AF-6FEA-4463-84DA-CC5DF6CB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05A49-6D13-467E-939D-8820B922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2BD19-8339-4823-854F-6CC78D28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AABA4-4B8E-4EDC-AF45-4F693C92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A27E8-658F-4D9D-9D87-336AA98B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BB784-BFC9-4A1F-A55B-BB10C702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5F138-3237-4664-9B00-43C9EAD4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49EA5-625E-4C33-9677-F85FA1BA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70C71-57F9-4CFA-A543-2F9BFDD0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57782-63A6-4865-A077-86C751A0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5AF0-2827-430C-85EC-960A2915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D9B4D-A62E-41C2-869E-642F727F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10BD6-F3F5-4235-9109-4203A776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6AF4B-CD10-42DF-AD78-7C0D1D00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F7B87-51F6-42C7-8255-580165F3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A94EC-39D2-4724-A599-9D8FC4B1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29C21-45D4-40A7-9FD0-41EFC8A3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B4E85-E38A-4370-87C3-784E60AB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B3AC5-C5D9-454B-8E99-B1664598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3B747-597F-4719-9F9D-69DAF5CF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B6DAB5-5D00-4DDC-B718-12C7C9D1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96EE-E614-42B0-B86C-089EA230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013CF-2F6B-4D2B-9AFA-EDCA3703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32680-62E8-40DA-A47B-286CF03A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D1B4F-30A4-4462-98DE-3255052B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4569B-2DBA-41C3-8757-0CA00667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968149-65B1-43BB-B796-C20CC951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E0849-2268-44D7-8979-7C403C2D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C5FD3-ADA4-4B7E-BF05-CBCED11E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0464F8-BB46-4924-8053-C2A63E1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DEC3E-B83B-48C3-8B93-3BB95890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2E46A-73EC-4B7A-B297-1883060C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28C5-F6DE-4498-BBD6-2085EFA6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E75BFE-E2CB-45F1-9ACC-06986A15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73425-9652-466C-8155-B20BF1B7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B2887-E99B-413A-8F0E-7DDB320F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C73D2-D426-4B23-B89F-2E90068C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A5CB5-C12E-43D0-BA6E-F5F15349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4137D-B51C-4EFC-B741-C9F7D0E2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5444F5-900B-4AA8-9A33-6B8B2BF0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987AF-A2D5-4E93-8886-E35F82C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3F898-3BE1-422A-8CB3-3A492E9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EED99-6B1A-48D5-A2F3-43DB3CBE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192B-DAFD-4E48-B260-F9A80BC1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B12F3-677C-4A8D-8F42-8D4F2070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C8264-F1FC-4E4F-A87D-9BBA3FBF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A439FB-396C-4A50-96B2-40D59CE2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1F364-F189-44EA-8D83-51CE2379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220D96-E897-4C68-87AA-0382B54C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2C314-9CBC-4F10-B43E-78A327BD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D31EB-11A8-4412-8743-0B5A89E2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35242A-5EB8-4E9F-AEF5-9BAD8CD1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17342B-2F31-482B-B680-CA8D1DD2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D65316-CBD1-4275-9DC2-98F9E0B7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3FB-A889-42FE-B399-1E1E0E8D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011E-49EB-425B-A6B5-CE1A442F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2E895-A44D-4A1E-AE90-3DF54E21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5D1F3-D279-453C-A3B6-019290E5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F429A-DAC8-46AD-A18F-E17DC336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B127E-AE79-4A6B-9AA8-EBB200F7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0CC61-33F5-4A5B-9D15-7EA561E9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A590EE-6BC2-4C39-B013-F1EEE4FC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C52F7-A22A-4494-A2FF-2E7EA9CE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0F8949-3E94-4316-BBE0-7F7366F4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04DBD-2166-4BF3-A9ED-FC9AB5CA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FB71E-92DD-477F-93C5-FE508FEB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0951-946A-46DF-811C-A63F877B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01096-27B5-4545-BAFA-D8DF0745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5935A8-80BE-4A2E-B084-1D12649B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19ADA2-F3CE-4054-974C-6097B266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B056B-9529-4C0D-A4AC-116456F7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121DAF-416D-4ADB-A269-CF75836B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4D721-6E68-4D18-A7A4-C7AD8A7D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B8459-7DC8-42B9-AA6C-413D7AE8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5B2B8E-0FDE-404E-BB5A-C87C1342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AB236-A3E3-4496-80B6-C5B71724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99B1F5-F7F1-4282-B33A-01BE929E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202A-52DF-4564-A165-BE0EE840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EB07E-A75E-476F-832C-191BB3BA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9CB296-1290-4FFE-9B44-F990FEF7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7DFDEC-9189-40AE-AA89-239B8455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C9D2FD-A69A-4ABA-A544-A5FA4041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38B1C-4E92-464D-8DE1-A4928AF2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2C50B9-B1AA-44A3-AA5A-C70AF06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CAE5ED-6AC7-45BD-851A-58F9B7DD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CFCDF-FA18-49ED-902D-D1392B90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04F60E-DC55-4F2F-BF2D-C6EFFE93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F6033E-3D0F-44A9-BD5B-CB1BBA64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2A3B-25F7-437B-85DA-AD4EB304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BF13F-A8A5-4AA4-9C38-F1E5C16F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E9580D-7373-452E-A483-4CB36CE9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AEB883-8B4A-421A-AD56-7ECCBC44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BC6969-E344-4D39-9408-74B3B38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EC7D27-E8F0-4B9F-B9F7-AFF92BEA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D6084E-4CDB-41D3-9F80-E2B5EFB8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28A64C-F828-4D0E-B9FA-C9FB8D2F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D3695F-71CE-4980-B3E5-8798A269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9E701-AA10-4673-A286-647056E1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904707-A628-4175-9778-E57D5AB2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9CE6-81BE-476E-875D-22A4A01E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DDC4B9-99DC-49DA-B429-B3863EE6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5563D7-DA48-4F8B-9521-ED3BDDFB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966274-647B-4916-AADF-649E6541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9353A1-8420-4C76-85DD-DABBA46E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C934EA-C95F-4952-B8CF-7A1B669D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2EC972-3EE3-4296-9E36-3A48285E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7E696F-25AA-467C-9D45-3B2D546C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77A6FC-A198-4D9B-9934-F47029A7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1F4BA4-3AA5-4A24-AC93-9AD9846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C69FFA-831A-4257-A605-034441A2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8B867-A371-49E8-B590-340215D9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D9EBD-105C-401B-A2E1-F588A00B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743635-6A88-4F15-B052-DBF9C079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3E8EA-1E17-437A-AAC0-19E6E5BB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CCA0-39A4-444F-BD15-D1F4D337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12C96-722A-4C01-963E-896CFA40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CEB0-E508-473D-B565-53CC98ED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CB4E-B409-4021-B01F-070C3BD4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523-8C43-4695-91DF-472384E8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E6F9-EE9B-44F1-9A7D-8B9DE1A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F640-5658-4438-921B-5A7C3466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AD86-C932-42A1-9884-E7C338CE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6A74-60C7-4F8C-9EE1-29464E21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AF24-C724-4227-AC30-B06B443D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2B24E-40FD-4FB0-BEDB-C5F32229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7530-C62F-4F5E-AD6D-EE44D53D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4A8B-5C29-4960-9BD9-D73F37D1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BE6FB-A759-409C-B7F3-84865F04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2EAFF-6B5E-487A-86A8-D972DDFB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A12-13B8-43BF-8277-7BA3A5FA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0B49C-BA09-44AE-B2A6-1CDFE213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549A7-E009-418A-AD64-35FEFAA3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417D1-5754-4C23-8758-7FF6E1DB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4F3BB-FE2B-4489-8A37-0DF73CF4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A39C-8EAC-4FDC-B96C-D1D37418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E73E8-D695-4B71-83B9-2CD0E4AD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09444-C84A-4EE8-BDDE-F8A47D2E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841AC-3520-45C5-BEF8-E45664DB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7CE6F-E71A-44FE-B676-A3BC3FC2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A670E-3D5A-43EE-8B53-586B400E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C6F-3B1A-4BE5-8325-A7E2822E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8D229-D992-4248-A5E1-169AC929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5B6AB-34F4-4D36-98F6-9C3F6123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47510-967C-45D1-AA5D-3BE0548B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43466-248B-4C67-9A02-74567055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84B32-8105-4946-9E7A-6F422F38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7DA7D-9BC9-45D8-ACBF-62EB06F6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CE2AA-80CD-4774-A2CE-99A81C02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A03CA-580D-4B96-A8B8-5EF5D0B1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7D188-B562-4E6E-A227-2B11A1C8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406B2-CE1F-4DF9-A788-B268B170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FB4-F5CB-4144-BC95-84B55BEE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ADAB4-6544-4D6C-81DB-8A8BE1A8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7E571-961E-4D65-A8D5-E6D7DC2C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612B5-7E82-4098-8A2B-E521D466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DA6F0-B29C-4ACC-A376-40F6A75E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3065-94E2-4083-932B-D1283CE2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9BEB2-4D6A-486E-96C7-F8D2AB5B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F36A4-4F48-4FCF-81DB-BAC36628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9F78-59F0-4896-B132-226E9970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DE8DA-FF09-4E62-A7F8-A5495892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9DDA2-2EC5-41F7-999F-5C6567D2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C2E-2C0E-4206-9E8D-ADE4EE03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9A4D-EE1A-4AFF-9B37-6F334F9B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A4417-C327-47C8-9CD8-C06C11F4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58322-6528-4283-8400-B818BE33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36989-F9B6-4C8D-AB5A-1A56F8F8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8A069-606D-461A-A4C1-31EA2E3B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0674D-EBED-402F-B83C-C7824142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A7C28-A313-4DD1-92BE-CC5120B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677E-930F-435C-9B43-7F49BB2C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ACAD9-32A4-40FD-907B-9D428CAD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C1EB-DDE5-4AEB-9BB4-3DFB7765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0A7-AE92-4527-8724-F08EF02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18EB8-AF14-4193-BF05-2337139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88B4E-3A72-459C-B566-D2CB812E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26CE7-5F90-4BA5-AF5A-566C5B36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8728A-4A5E-4FC9-A9E9-BE0AC28E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440B7-C70F-4993-987F-FE4B3CE5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B160B-B7A9-4893-9B6F-CC77E1C0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04937-6946-4B20-A0D0-FB2D1E04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3FC5D-4FCB-4942-99ED-66E5A4F3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3542E-0282-4107-871E-2017116F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37C72-7880-49BE-8311-BC40DE2D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6E8-D65E-4C86-BDCC-556FF886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87294-6381-4685-A8F1-DC147F6D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1AF54-037E-4ECB-BF84-FC13C8F6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57BED-DCF9-4F42-B5BE-D3777194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F3822-3C8F-4A77-A109-18B5008D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EEE9A-9F4E-4E83-9199-828FC91B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CA88A-C84B-440C-9B1F-EFD26E44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CAA23-0A9E-4DDB-9FF4-4720DEE5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079B4-4508-4974-9411-87F19C8E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9572A-9CD0-4009-BE72-CA8BF81D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9299B-9E82-4EC3-848D-BB076EE5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99C1-7057-4B4F-978F-6FF6B7789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C76D-DB49-432C-A658-8EB7DF0B03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06AE-0B93-4CFF-970C-0D5B723886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7BDC-6E2B-4ED8-A0FA-8324AAA4B1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DB22-B923-45CA-AC04-A57EB62CE5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35E3-743F-4DEC-9B72-7961E78AAA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E24D-BABB-4D16-82B7-4A0FB3FB16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A700-336B-488E-84B1-7300C38686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F6B6-2F18-432B-8574-45F09C218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151C-913B-4393-B7BF-F14A2CE91B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5659-33B5-4968-A12B-A4F4A0711E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B6A3-F062-4E7B-9E07-89964F8B2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F357-04F8-48BF-923A-5BFFCF9237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A8EC-5AC5-4A0D-8194-06E5A70A9D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2524-CAD9-44B7-BDE7-925E04F774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F12C-564D-4D9F-BF8F-77F40C9B1D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57C4-C418-41C9-8081-AEAA582219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EA9C-324B-44B1-A152-852C1629D8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1C43-DE11-423C-984F-6539BDA0B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ED67-A900-4250-BCAA-5F5FD5C746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D5C0-97B4-4B6A-915B-70A0E43747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4208-51CA-4B1B-BC05-F3C5A0BB1D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E3B9-6BEB-42D0-BEEF-2FFBE0EEFA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3C6D-6875-4EAD-A845-3296F1BA5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6EC3-FF38-4049-AC76-69C493437A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A83E-3B37-4F0A-A436-63B8498610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129E-4E29-465D-BBDD-806BAC714B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6BB6-31FC-4791-94DC-ABF55B22B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5464-9C96-4C00-9911-4EAE83322B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9901-D252-4BDC-AFCD-5CBACD1608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5797-8262-4E01-B07B-79742FEE3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ECAA-6A1E-4E23-8036-08678F13DD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B9BB-DF49-4645-BF96-E167934A59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CF39-9BD8-44B3-8B4F-EF7D8F0BFF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86EF-7522-4F49-B3F0-66B56AB1F2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4791-B5C9-4338-BE5A-EFBCB085FD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FF71-58C3-4523-93EB-53273FB73D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67F3-3297-482D-AC79-9AE43B5A8B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E527-4553-434F-95ED-C76EBC1E6B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C239-2860-48C6-8E99-917BBC7FB5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428840" y="3048120"/>
            <a:ext cx="62863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Picture 2" descr=""/>
          <p:cNvPicPr/>
          <p:nvPr/>
        </p:nvPicPr>
        <p:blipFill>
          <a:blip r:embed="rId1"/>
          <a:stretch/>
        </p:blipFill>
        <p:spPr>
          <a:xfrm>
            <a:off x="1019160" y="1127160"/>
            <a:ext cx="7105680" cy="50385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3"/>
          <a:stretch/>
        </p:blipFill>
        <p:spPr>
          <a:xfrm>
            <a:off x="1598760" y="400536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Picture 1" descr=""/>
          <p:cNvPicPr/>
          <p:nvPr/>
        </p:nvPicPr>
        <p:blipFill>
          <a:blip r:embed="rId1"/>
          <a:stretch/>
        </p:blipFill>
        <p:spPr>
          <a:xfrm>
            <a:off x="942840" y="1028880"/>
            <a:ext cx="7258320" cy="5495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3" descr=""/>
          <p:cNvPicPr/>
          <p:nvPr/>
        </p:nvPicPr>
        <p:blipFill>
          <a:blip r:embed="rId3"/>
          <a:stretch/>
        </p:blipFill>
        <p:spPr>
          <a:xfrm>
            <a:off x="1476360" y="321300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"/>
          <p:cNvPicPr/>
          <p:nvPr/>
        </p:nvPicPr>
        <p:blipFill>
          <a:blip r:embed="rId4"/>
          <a:stretch/>
        </p:blipFill>
        <p:spPr>
          <a:xfrm>
            <a:off x="1476360" y="55166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Picture 2" descr=""/>
          <p:cNvPicPr/>
          <p:nvPr/>
        </p:nvPicPr>
        <p:blipFill>
          <a:blip r:embed="rId1"/>
          <a:stretch/>
        </p:blipFill>
        <p:spPr>
          <a:xfrm>
            <a:off x="890640" y="765000"/>
            <a:ext cx="736272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5" name="Picture 1" descr=""/>
          <p:cNvPicPr/>
          <p:nvPr/>
        </p:nvPicPr>
        <p:blipFill>
          <a:blip r:embed="rId1"/>
          <a:stretch/>
        </p:blipFill>
        <p:spPr>
          <a:xfrm>
            <a:off x="900000" y="743040"/>
            <a:ext cx="7344000" cy="53910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2" descr=""/>
          <p:cNvPicPr/>
          <p:nvPr/>
        </p:nvPicPr>
        <p:blipFill>
          <a:blip r:embed="rId2"/>
          <a:stretch/>
        </p:blipFill>
        <p:spPr>
          <a:xfrm>
            <a:off x="2687760" y="6315120"/>
            <a:ext cx="5124240" cy="4572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3" descr=""/>
          <p:cNvPicPr/>
          <p:nvPr/>
        </p:nvPicPr>
        <p:blipFill>
          <a:blip r:embed="rId3"/>
          <a:stretch/>
        </p:blipFill>
        <p:spPr>
          <a:xfrm>
            <a:off x="1403280" y="12682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3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3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2" name="Picture 1" descr=""/>
          <p:cNvPicPr/>
          <p:nvPr/>
        </p:nvPicPr>
        <p:blipFill>
          <a:blip r:embed="rId1"/>
          <a:stretch/>
        </p:blipFill>
        <p:spPr>
          <a:xfrm>
            <a:off x="900000" y="1496880"/>
            <a:ext cx="7315200" cy="15717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2" descr=""/>
          <p:cNvPicPr/>
          <p:nvPr/>
        </p:nvPicPr>
        <p:blipFill>
          <a:blip r:embed="rId2"/>
          <a:stretch/>
        </p:blipFill>
        <p:spPr>
          <a:xfrm>
            <a:off x="760320" y="3368520"/>
            <a:ext cx="7400880" cy="27244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3" descr=""/>
          <p:cNvPicPr/>
          <p:nvPr/>
        </p:nvPicPr>
        <p:blipFill>
          <a:blip r:embed="rId3"/>
          <a:stretch/>
        </p:blipFill>
        <p:spPr>
          <a:xfrm>
            <a:off x="1332000" y="1557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3" descr=""/>
          <p:cNvPicPr/>
          <p:nvPr/>
        </p:nvPicPr>
        <p:blipFill>
          <a:blip r:embed="rId4"/>
          <a:stretch/>
        </p:blipFill>
        <p:spPr>
          <a:xfrm>
            <a:off x="1187280" y="335772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8" name="Picture 3" descr=""/>
          <p:cNvPicPr/>
          <p:nvPr/>
        </p:nvPicPr>
        <p:blipFill>
          <a:blip r:embed="rId1"/>
          <a:stretch/>
        </p:blipFill>
        <p:spPr>
          <a:xfrm>
            <a:off x="611280" y="736560"/>
            <a:ext cx="791352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1" name="Picture 1" descr=""/>
          <p:cNvPicPr/>
          <p:nvPr/>
        </p:nvPicPr>
        <p:blipFill>
          <a:blip r:embed="rId1"/>
          <a:stretch/>
        </p:blipFill>
        <p:spPr>
          <a:xfrm>
            <a:off x="861840" y="981000"/>
            <a:ext cx="7420320" cy="55436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3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7056360" cy="4381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3" descr=""/>
          <p:cNvPicPr/>
          <p:nvPr/>
        </p:nvPicPr>
        <p:blipFill>
          <a:blip r:embed="rId3"/>
          <a:stretch/>
        </p:blipFill>
        <p:spPr>
          <a:xfrm>
            <a:off x="1332000" y="3247920"/>
            <a:ext cx="7056360" cy="4381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3" descr=""/>
          <p:cNvPicPr/>
          <p:nvPr/>
        </p:nvPicPr>
        <p:blipFill>
          <a:blip r:embed="rId4"/>
          <a:stretch/>
        </p:blipFill>
        <p:spPr>
          <a:xfrm>
            <a:off x="1332000" y="4368960"/>
            <a:ext cx="7056360" cy="4381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" descr=""/>
          <p:cNvPicPr/>
          <p:nvPr/>
        </p:nvPicPr>
        <p:blipFill>
          <a:blip r:embed="rId5"/>
          <a:stretch/>
        </p:blipFill>
        <p:spPr>
          <a:xfrm>
            <a:off x="1332000" y="6026040"/>
            <a:ext cx="7056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8" name="Picture 1" descr=""/>
          <p:cNvPicPr/>
          <p:nvPr/>
        </p:nvPicPr>
        <p:blipFill>
          <a:blip r:embed="rId1"/>
          <a:stretch/>
        </p:blipFill>
        <p:spPr>
          <a:xfrm>
            <a:off x="509760" y="1155600"/>
            <a:ext cx="8124480" cy="51530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3" descr=""/>
          <p:cNvPicPr/>
          <p:nvPr/>
        </p:nvPicPr>
        <p:blipFill>
          <a:blip r:embed="rId2"/>
          <a:stretch/>
        </p:blipFill>
        <p:spPr>
          <a:xfrm>
            <a:off x="1959120" y="4179960"/>
            <a:ext cx="1439640" cy="4381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3" descr=""/>
          <p:cNvPicPr/>
          <p:nvPr/>
        </p:nvPicPr>
        <p:blipFill>
          <a:blip r:embed="rId3"/>
          <a:stretch/>
        </p:blipFill>
        <p:spPr>
          <a:xfrm>
            <a:off x="2050920" y="5275440"/>
            <a:ext cx="1441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3" name="Picture 2" descr=""/>
          <p:cNvPicPr/>
          <p:nvPr/>
        </p:nvPicPr>
        <p:blipFill>
          <a:blip r:embed="rId1"/>
          <a:stretch/>
        </p:blipFill>
        <p:spPr>
          <a:xfrm>
            <a:off x="819000" y="1476360"/>
            <a:ext cx="7506000" cy="39052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3" descr=""/>
          <p:cNvPicPr/>
          <p:nvPr/>
        </p:nvPicPr>
        <p:blipFill>
          <a:blip r:embed="rId2"/>
          <a:stretch/>
        </p:blipFill>
        <p:spPr>
          <a:xfrm>
            <a:off x="1763640" y="155088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3" descr=""/>
          <p:cNvPicPr/>
          <p:nvPr/>
        </p:nvPicPr>
        <p:blipFill>
          <a:blip r:embed="rId3"/>
          <a:stretch/>
        </p:blipFill>
        <p:spPr>
          <a:xfrm>
            <a:off x="1916280" y="2106720"/>
            <a:ext cx="1792080" cy="4381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3" descr=""/>
          <p:cNvPicPr/>
          <p:nvPr/>
        </p:nvPicPr>
        <p:blipFill>
          <a:blip r:embed="rId4"/>
          <a:stretch/>
        </p:blipFill>
        <p:spPr>
          <a:xfrm>
            <a:off x="6659640" y="2101680"/>
            <a:ext cx="1441440" cy="4384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3" descr=""/>
          <p:cNvPicPr/>
          <p:nvPr/>
        </p:nvPicPr>
        <p:blipFill>
          <a:blip r:embed="rId5"/>
          <a:stretch/>
        </p:blipFill>
        <p:spPr>
          <a:xfrm>
            <a:off x="3924360" y="2657520"/>
            <a:ext cx="1079280" cy="4381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3" descr=""/>
          <p:cNvPicPr/>
          <p:nvPr/>
        </p:nvPicPr>
        <p:blipFill>
          <a:blip r:embed="rId6"/>
          <a:stretch/>
        </p:blipFill>
        <p:spPr>
          <a:xfrm>
            <a:off x="2058840" y="3772080"/>
            <a:ext cx="1791000" cy="4381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3" descr=""/>
          <p:cNvPicPr/>
          <p:nvPr/>
        </p:nvPicPr>
        <p:blipFill>
          <a:blip r:embed="rId7"/>
          <a:stretch/>
        </p:blipFill>
        <p:spPr>
          <a:xfrm>
            <a:off x="6896160" y="4313160"/>
            <a:ext cx="1081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38200" y="923760"/>
            <a:ext cx="80676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914400" y="808200"/>
            <a:ext cx="7315200" cy="59338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3"/>
          <a:stretch/>
        </p:blipFill>
        <p:spPr>
          <a:xfrm>
            <a:off x="1403280" y="19112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4"/>
          <a:stretch/>
        </p:blipFill>
        <p:spPr>
          <a:xfrm>
            <a:off x="1403280" y="24861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5"/>
          <a:stretch/>
        </p:blipFill>
        <p:spPr>
          <a:xfrm>
            <a:off x="1403280" y="2990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6"/>
          <a:stretch/>
        </p:blipFill>
        <p:spPr>
          <a:xfrm>
            <a:off x="1403280" y="35672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7"/>
          <a:stretch/>
        </p:blipFill>
        <p:spPr>
          <a:xfrm>
            <a:off x="1403280" y="40878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8"/>
          <a:stretch/>
        </p:blipFill>
        <p:spPr>
          <a:xfrm>
            <a:off x="1403280" y="46465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9"/>
          <a:stretch/>
        </p:blipFill>
        <p:spPr>
          <a:xfrm>
            <a:off x="1403280" y="51516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10"/>
          <a:stretch/>
        </p:blipFill>
        <p:spPr>
          <a:xfrm>
            <a:off x="1403280" y="57326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11"/>
          <a:stretch/>
        </p:blipFill>
        <p:spPr>
          <a:xfrm>
            <a:off x="1476360" y="630396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Picture 3" descr=""/>
          <p:cNvPicPr/>
          <p:nvPr/>
        </p:nvPicPr>
        <p:blipFill>
          <a:blip r:embed="rId1"/>
          <a:stretch/>
        </p:blipFill>
        <p:spPr>
          <a:xfrm>
            <a:off x="561960" y="930240"/>
            <a:ext cx="80200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3" descr=""/>
          <p:cNvPicPr/>
          <p:nvPr/>
        </p:nvPicPr>
        <p:blipFill>
          <a:blip r:embed="rId1"/>
          <a:stretch/>
        </p:blipFill>
        <p:spPr>
          <a:xfrm>
            <a:off x="843120" y="1125360"/>
            <a:ext cx="745776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861840" y="1146240"/>
            <a:ext cx="7420320" cy="5019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1258920" y="23432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3"/>
          <a:stretch/>
        </p:blipFill>
        <p:spPr>
          <a:xfrm>
            <a:off x="1258920" y="291924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4"/>
          <a:stretch/>
        </p:blipFill>
        <p:spPr>
          <a:xfrm>
            <a:off x="1258920" y="393372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5"/>
          <a:stretch/>
        </p:blipFill>
        <p:spPr>
          <a:xfrm>
            <a:off x="1258920" y="45640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6"/>
          <a:stretch/>
        </p:blipFill>
        <p:spPr>
          <a:xfrm>
            <a:off x="1332000" y="50785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523800" y="744480"/>
            <a:ext cx="809640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Picture 2" descr=""/>
          <p:cNvPicPr/>
          <p:nvPr/>
        </p:nvPicPr>
        <p:blipFill>
          <a:blip r:embed="rId1"/>
          <a:stretch/>
        </p:blipFill>
        <p:spPr>
          <a:xfrm>
            <a:off x="800280" y="1014480"/>
            <a:ext cx="7543800" cy="54388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2"/>
          <a:stretch/>
        </p:blipFill>
        <p:spPr>
          <a:xfrm>
            <a:off x="1403280" y="21272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4"/>
          <a:stretch/>
        </p:blipFill>
        <p:spPr>
          <a:xfrm>
            <a:off x="1403280" y="32781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5"/>
          <a:stretch/>
        </p:blipFill>
        <p:spPr>
          <a:xfrm>
            <a:off x="1403280" y="43592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6"/>
          <a:stretch/>
        </p:blipFill>
        <p:spPr>
          <a:xfrm>
            <a:off x="1403280" y="543888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3" descr=""/>
          <p:cNvPicPr/>
          <p:nvPr/>
        </p:nvPicPr>
        <p:blipFill>
          <a:blip r:embed="rId1"/>
          <a:stretch/>
        </p:blipFill>
        <p:spPr>
          <a:xfrm>
            <a:off x="509760" y="736560"/>
            <a:ext cx="81244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5:18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